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3ED8-76C1-4E38-916E-4A611A7444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and Leadership Develop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over Middle Scho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Leadership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over Middl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ing about your words and actions and then making choices that are right for you and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pt that things will not always go your w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sh chores before play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 and then making choices that are right for you and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 that things will not always go your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chores before pla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people can count on you to do the right th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urn things you borr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s can count on you to do what you say you will d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people can count on you to do the right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hings you bo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can count on you to do what you say you will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12 Powerful Wor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ly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ul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2 Powerful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tizenshi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eys th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to make the community a better pl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ys the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to make the community a better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kind and thoughtful towards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ing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ing kind things for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kind and thoughtful towards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ing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g kind things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ing tur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ening to what others have to s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ing to what others have to 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truthful and sinc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ing your own wor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urn things that belong to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truthful and sinc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g your own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hings that belong to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ing choices that help you be the best person you 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what you think is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at being the best you 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choices that help you be the best person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hat you think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at being the bes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hard and not giving 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ck with something and not give 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 with something and not giv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e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ating others the way you would want to be tre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king permission before using someone else’s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others the way you would want to be t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ing permission before using someone else’s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dependable and making good choi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care of things that belong to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care of yoursel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dependable and making good ch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care of things that belong to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care of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BE4C-0265-4376-B050-9A97CE6F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B2A-C8D5-4355-9154-89D09E9C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D97-C1D6-406D-957D-BB978FCB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67BB-3DFA-4A66-9432-33D1DCD3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84519-AC14-4EED-81A0-0D9C768E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01E35-BA99-4E2B-A680-953A759E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C2B8A-D0FC-4413-B760-DC93AC4B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A72BB-F565-4B66-9330-59CBE078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2D27EF-9B95-4B06-8F82-FCDFF47A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17A0F-54A8-4755-B308-30A6D4F6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2185A-4CAF-432A-89DD-D861839D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765D-D37D-4D14-B655-88B69E9C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007EF-7BF1-4B36-B376-60704E91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35F7F-4DD8-4545-BC1B-B7B37180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89EB0-AFE3-4289-9948-0647996B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37DD7-DEE9-4DA0-ADEF-C3E035E4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79F05-1490-448D-BD1A-A3F3CD0D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F7E0-57FA-4791-8C24-CBB64F2E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D962-259F-494D-A8D4-53BA6BDB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B9BD-6E20-49F5-86B4-07049FF4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0B2C-7F2B-451E-A1C4-F4E0CEBA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90BF-4E08-4118-9213-336AC522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B03F-096B-4153-8384-289C5344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3B15-E882-4038-93F5-C50A9D20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5404-86ED-483F-AC6D-820B6E5E9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B739-0C32-477B-AC1E-5FD7A06745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racter and Leadership Develop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. And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over Middle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lf-Discipl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nking about your words and actions and then making choices that are right for you and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pt that things will not always go your 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ish chores before play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j0195384"/>
          <p:cNvPicPr/>
          <p:nvPr/>
        </p:nvPicPr>
        <p:blipFill>
          <a:blip r:embed="rId1"/>
          <a:stretch/>
        </p:blipFill>
        <p:spPr>
          <a:xfrm>
            <a:off x="4952880" y="1598760"/>
            <a:ext cx="35053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ustworthi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people can count on you to do the right 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hings you bo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 can count on you to do what you say you will 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j0090070"/>
          <p:cNvPicPr/>
          <p:nvPr/>
        </p:nvPicPr>
        <p:blipFill>
          <a:blip r:embed="rId1"/>
          <a:stretch/>
        </p:blipFill>
        <p:spPr>
          <a:xfrm>
            <a:off x="4724280" y="1447920"/>
            <a:ext cx="39625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12 Powerful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u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cri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l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mari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di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9" descr="j0301252"/>
          <p:cNvPicPr/>
          <p:nvPr/>
        </p:nvPicPr>
        <p:blipFill>
          <a:blip r:embed="rId1"/>
          <a:stretch/>
        </p:blipFill>
        <p:spPr>
          <a:xfrm>
            <a:off x="3505320" y="1447920"/>
            <a:ext cx="5105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itizenshi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eys the r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to make the community a better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8" descr="j0233018"/>
          <p:cNvPicPr/>
          <p:nvPr/>
        </p:nvPicPr>
        <p:blipFill>
          <a:blip r:embed="rId1"/>
          <a:stretch/>
        </p:blipFill>
        <p:spPr>
          <a:xfrm>
            <a:off x="4648320" y="1371600"/>
            <a:ext cx="396216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as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kind and thoughtful towards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ing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kind things for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j0216724"/>
          <p:cNvPicPr/>
          <p:nvPr/>
        </p:nvPicPr>
        <p:blipFill>
          <a:blip r:embed="rId1"/>
          <a:stretch/>
        </p:blipFill>
        <p:spPr>
          <a:xfrm>
            <a:off x="4648320" y="1527120"/>
            <a:ext cx="38098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ir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ing tu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ening to what others have to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j0300840"/>
          <p:cNvPicPr/>
          <p:nvPr/>
        </p:nvPicPr>
        <p:blipFill>
          <a:blip r:embed="rId1"/>
          <a:stretch/>
        </p:blipFill>
        <p:spPr>
          <a:xfrm>
            <a:off x="4267080" y="1141560"/>
            <a:ext cx="41148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nes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truthful and sinc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your own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hings that belong to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j0293844"/>
          <p:cNvPicPr/>
          <p:nvPr/>
        </p:nvPicPr>
        <p:blipFill>
          <a:blip r:embed="rId1"/>
          <a:stretch/>
        </p:blipFill>
        <p:spPr>
          <a:xfrm>
            <a:off x="4876920" y="762120"/>
            <a:ext cx="358128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egr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ing choices that help you be the best person you can 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what you think is r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at being the best you can 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j0215086"/>
          <p:cNvPicPr/>
          <p:nvPr/>
        </p:nvPicPr>
        <p:blipFill>
          <a:blip r:embed="rId1"/>
          <a:stretch/>
        </p:blipFill>
        <p:spPr>
          <a:xfrm>
            <a:off x="4952880" y="1214280"/>
            <a:ext cx="3429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rsever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hard and not giving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ck with something and not give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j0199549"/>
          <p:cNvPicPr/>
          <p:nvPr/>
        </p:nvPicPr>
        <p:blipFill>
          <a:blip r:embed="rId1"/>
          <a:stretch/>
        </p:blipFill>
        <p:spPr>
          <a:xfrm>
            <a:off x="4952880" y="1693800"/>
            <a:ext cx="350532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pe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ing others the way you would want to be tre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ing permission before using someone else’s th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j0297551"/>
          <p:cNvPicPr/>
          <p:nvPr/>
        </p:nvPicPr>
        <p:blipFill>
          <a:blip r:embed="rId1"/>
          <a:stretch/>
        </p:blipFill>
        <p:spPr>
          <a:xfrm>
            <a:off x="5181480" y="1603440"/>
            <a:ext cx="312444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ponsi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dependable and making good cho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care of things that belong to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care of your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j0195812"/>
          <p:cNvPicPr/>
          <p:nvPr/>
        </p:nvPicPr>
        <p:blipFill>
          <a:blip r:embed="rId1"/>
          <a:stretch/>
        </p:blipFill>
        <p:spPr>
          <a:xfrm>
            <a:off x="4952880" y="1146240"/>
            <a:ext cx="358164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04:56Z</dcterms:created>
  <dc:creator>OKCPS</dc:creator>
  <dc:description/>
  <dc:language>en-US</dc:language>
  <cp:lastModifiedBy>RomaK</cp:lastModifiedBy>
  <dcterms:modified xsi:type="dcterms:W3CDTF">2015-09-02T09:33:09Z</dcterms:modified>
  <cp:revision>7</cp:revision>
  <dc:subject/>
  <dc:title>Character and Leadership Development</dc:title>
</cp:coreProperties>
</file>